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1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3.pct" ContentType="image/x-pict"/>
  <Override PartName="/ppt/media/image4.pct" ContentType="image/x-pict"/>
  <Override PartName="/ppt/media/image5.jpeg" ContentType="image/jpeg"/>
  <Override PartName="/ppt/media/image12.pct" ContentType="image/x-pict"/>
  <Override PartName="/ppt/media/image2.pct" ContentType="image/x-pict"/>
  <Override PartName="/ppt/media/image9.jpeg" ContentType="image/jpeg"/>
  <Override PartName="/ppt/media/image11.png" ContentType="image/png"/>
  <Override PartName="/ppt/media/image30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pct" ContentType="image/x-pict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jpeg" ContentType="image/jpeg"/>
  <Override PartName="/ppt/media/image24.jpeg" ContentType="image/jpeg"/>
  <Override PartName="/ppt/media/image25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107E-93C4-4021-8ADD-633AA3E1E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 skeleton, different functional grou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other molecules in membra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e of same elements as carbohydrates but very different structure/ proportions &amp; therefore very different biolog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at structure… What makes them hydrophob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functional group = carbox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FAT molecu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ling the water out to free up the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happens when you add oil to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is there a lot of energy stored in fa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bonds of store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why are we attracted to eating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our ancestors on the Serengeti Plain &amp; during the Ice Age. Was eating fat an advant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plant lip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“natural” peanut but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unsaturated fa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l separat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es want to make their product easier to u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p the oil from separa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oil solid at room te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genate it = chemically alter to satur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 nutr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658F-D20E-4478-94E6-C161EB2C4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3461-5DBD-42B7-B4E4-FB7D83652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A0BD-B06E-4D3E-9ADC-B14884DA9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7052-CC34-4988-A8FC-05DA4F3FF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101A-5275-4432-90DF-D57D782B5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E92C0-A7B2-40D1-81C2-B793131744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BF05B-91CF-42FE-A98F-71F9DC7854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453A2-88A3-4DE8-9A69-BA7E52B2BA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855BF-819A-4633-A9FE-0BAA7313A7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9797C-C672-4166-8EC6-0BB3052D5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1FCA-0647-4986-B4D3-DD25B8BF5F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BF80B-5653-4348-8D70-9008B118C3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CD9D4-5894-4945-83F9-79368A254B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90291-5770-4FA4-9878-F7FD22B975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4BE6C-ADE8-4FD3-8AB0-CEE37105A2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FA0FC-6D17-4B7F-AA12-6FCAFAD14D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1342E-1BAD-4CCA-92D5-060A2EA258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F23A7-D4D0-44A0-8046-DA821A37B2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8628-16AE-4A84-9732-30F3FFCE71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6909-9C39-4BEA-96BE-F5FCC7070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EF5D-F475-4967-8BCC-6F0B97051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47A5-A92F-4211-992A-E7AB024CF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817F-61B9-4FE6-9239-33F18B671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3F14-C695-4082-9A83-CB93EBD0F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F931-973D-4491-89C5-E57C605675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7C73-4D6B-42C7-9C94-914925AD99A3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5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147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151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ct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: Fats &amp; Oil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87320" y="1371600"/>
            <a:ext cx="3175200" cy="2540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343400" y="1344600"/>
            <a:ext cx="4572000" cy="258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197840" y="4229280"/>
            <a:ext cx="1717560" cy="2476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38080" y="4191120"/>
            <a:ext cx="2476800" cy="2278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3657600" y="42670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vs. unsaturate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762120" y="1752480"/>
            <a:ext cx="8164440" cy="3178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rcRect l="0" t="75689" r="60301" b="6492"/>
          <a:stretch/>
        </p:blipFill>
        <p:spPr>
          <a:xfrm>
            <a:off x="797040" y="4881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rcRect l="0" t="75689" r="60301" b="6492"/>
          <a:stretch/>
        </p:blipFill>
        <p:spPr>
          <a:xfrm>
            <a:off x="797040" y="541512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rcRect l="0" t="75689" r="60301" b="6492"/>
          <a:stretch/>
        </p:blipFill>
        <p:spPr>
          <a:xfrm>
            <a:off x="797040" y="5943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rcRect l="61204" t="69198" r="0" b="6492"/>
          <a:stretch/>
        </p:blipFill>
        <p:spPr>
          <a:xfrm>
            <a:off x="5638680" y="4967280"/>
            <a:ext cx="3168720" cy="8240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rcRect l="61204" t="69198" r="0" b="6492"/>
          <a:stretch/>
        </p:blipFill>
        <p:spPr>
          <a:xfrm>
            <a:off x="5975280" y="5867280"/>
            <a:ext cx="3168720" cy="824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601280" y="129492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9360" y="129492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un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14400" y="2666880"/>
            <a:ext cx="3595680" cy="3595680"/>
            <a:chOff x="914400" y="2666880"/>
            <a:chExt cx="3595680" cy="3595680"/>
          </a:xfrm>
        </p:grpSpPr>
        <p:sp>
          <p:nvSpPr>
            <p:cNvPr id="290" name=""/>
            <p:cNvSpPr/>
            <p:nvPr/>
          </p:nvSpPr>
          <p:spPr>
            <a:xfrm>
              <a:off x="914400" y="2666880"/>
              <a:ext cx="3595680" cy="3595680"/>
            </a:xfrm>
            <a:prstGeom prst="ellipse">
              <a:avLst/>
            </a:prstGeom>
            <a:noFill/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96960" y="3008160"/>
              <a:ext cx="2139480" cy="2927160"/>
            </a:xfrm>
            <a:prstGeom prst="line">
              <a:avLst/>
            </a:prstGeom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007960" y="3015720"/>
            <a:ext cx="407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0" spc="-1" strike="noStrike">
                <a:solidFill>
                  <a:srgbClr val="006c01"/>
                </a:solidFill>
                <a:latin typeface="Wingdings"/>
                <a:ea typeface="Wingdings"/>
              </a:rPr>
              <a:t></a:t>
            </a:r>
            <a:endParaRPr b="0" lang="en-US" sz="37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0" t="0" r="32404" b="8571"/>
          <a:stretch/>
        </p:blipFill>
        <p:spPr>
          <a:xfrm>
            <a:off x="4091040" y="2660760"/>
            <a:ext cx="4849920" cy="41320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+ 2 fatty acids +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negatively charg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H="1">
            <a:off x="1105920" y="3591000"/>
            <a:ext cx="2469960" cy="2077920"/>
          </a:xfrm>
          <a:prstGeom prst="wedgeEllipseCallout">
            <a:avLst>
              <a:gd name="adj1" fmla="val 42990"/>
              <a:gd name="adj2" fmla="val 508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t’s just like 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enguin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 head at one e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&amp; a tai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the other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32674" b="11856"/>
          <a:stretch/>
        </p:blipFill>
        <p:spPr>
          <a:xfrm>
            <a:off x="4572000" y="3052800"/>
            <a:ext cx="4522680" cy="37288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639612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or hydrophilic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tty acid tails =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ead =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lit “personalit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9520" y="5194080"/>
            <a:ext cx="3245040" cy="137556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with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is complex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 impor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 flipH="1">
            <a:off x="221760" y="5570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514480" y="5834880"/>
            <a:ext cx="2368080" cy="337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repelled by water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92520" y="2963160"/>
            <a:ext cx="2413800" cy="337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attracted to water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6400" y="3502080"/>
            <a:ext cx="2378160" cy="1623960"/>
          </a:xfrm>
          <a:prstGeom prst="wedgeEllipseCallout">
            <a:avLst>
              <a:gd name="adj1" fmla="val 17486"/>
              <a:gd name="adj2" fmla="val 909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Come here,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No, go away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Come here,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No, go away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04600" y="1926720"/>
            <a:ext cx="218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ydrophob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25560" y="2430000"/>
            <a:ext cx="205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ydrophill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ydrophilic heads “attracted” to 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ydrophobic tails “hide” from 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self-assemble into “bubbles”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bble = “micelle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 also form a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spholipid bilay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rly evolutionary stage of cell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27489" t="0" r="0" b="52806"/>
          <a:stretch/>
        </p:blipFill>
        <p:spPr>
          <a:xfrm>
            <a:off x="228600" y="4343400"/>
            <a:ext cx="4267080" cy="2446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rcRect l="29604" t="57006" r="0" b="8678"/>
          <a:stretch/>
        </p:blipFill>
        <p:spPr>
          <a:xfrm>
            <a:off x="4971960" y="4592520"/>
            <a:ext cx="3924360" cy="1633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660920" y="5258160"/>
            <a:ext cx="1298520" cy="405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ilay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66040" y="4197600"/>
            <a:ext cx="1298520" cy="4057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66040" y="6109200"/>
            <a:ext cx="1298520" cy="4057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this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create a barrier in 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e outside vs. insid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y make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ell membranes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7240" y="2965320"/>
            <a:ext cx="2903760" cy="24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873600" y="2940120"/>
            <a:ext cx="5105160" cy="38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>
            <a:off x="1736640" y="5618160"/>
            <a:ext cx="2286000" cy="1036800"/>
          </a:xfrm>
          <a:prstGeom prst="wedgeEllipseCallout">
            <a:avLst>
              <a:gd name="adj1" fmla="val 68680"/>
              <a:gd name="adj2" fmla="val -3468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ell th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bout soa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fused C rings + ?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steroids created by atta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functional group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o ring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structure creates different function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examples: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holesterol, sex hormo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935440" y="4202280"/>
            <a:ext cx="5752800" cy="2604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999800" y="4759200"/>
            <a:ext cx="1717200" cy="47520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ell componen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nimal 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ecursor of all other 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luding vertebrate sex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gh levels in blood may contribute to cardiovascular dise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28600" y="4703760"/>
            <a:ext cx="4419720" cy="2001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971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27040" y="2043000"/>
            <a:ext cx="5738760" cy="430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31" name=""/>
          <p:cNvSpPr txBox="1"/>
          <p:nvPr/>
        </p:nvSpPr>
        <p:spPr>
          <a:xfrm>
            <a:off x="6152040" y="5340960"/>
            <a:ext cx="2725560" cy="15843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txBody>
          <a:bodyPr tIns="0" bIns="0"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lps keep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ll membrane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uid &amp; flexib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6960" y="1384200"/>
            <a:ext cx="7480080" cy="506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omponent of cell membran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holesterol </a:t>
            </a:r>
            <a:r>
              <a:rPr b="1" lang="en-US" sz="36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Sex Hormo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236760" y="1785960"/>
            <a:ext cx="5830920" cy="49957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52280" y="1898640"/>
            <a:ext cx="3048120" cy="22543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5666" t="0" r="9438" b="0"/>
          <a:stretch/>
        </p:blipFill>
        <p:spPr>
          <a:xfrm>
            <a:off x="0" y="4575240"/>
            <a:ext cx="3200400" cy="19749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10720" y="1230120"/>
            <a:ext cx="81536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What a big difference a few atoms can make!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33960" y="1773360"/>
            <a:ext cx="860400" cy="11239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42200" y="1773360"/>
            <a:ext cx="1019160" cy="11239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0" y="5570640"/>
            <a:ext cx="561960" cy="620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67200" y="5570640"/>
            <a:ext cx="561960" cy="620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61200" y="4327560"/>
            <a:ext cx="720720" cy="792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02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1683" r="52024" b="48674"/>
          <a:stretch/>
        </p:blipFill>
        <p:spPr>
          <a:xfrm>
            <a:off x="5407200" y="447840"/>
            <a:ext cx="3511440" cy="19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322200"/>
            <a:ext cx="1792440" cy="2654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rcRect l="0" t="0" r="0" b="10353"/>
          <a:stretch/>
        </p:blipFill>
        <p:spPr>
          <a:xfrm>
            <a:off x="2438280" y="4606920"/>
            <a:ext cx="3962520" cy="2162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19320" y="2104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42400" y="3101040"/>
            <a:ext cx="5356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long term energy storage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ncentrated energy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00280" y="2566800"/>
            <a:ext cx="72388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hosts of Lectures Past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(storage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42302" t="0" r="32674" b="11856"/>
          <a:stretch/>
        </p:blipFill>
        <p:spPr>
          <a:xfrm>
            <a:off x="254160" y="3029040"/>
            <a:ext cx="1158840" cy="25700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0" r="0" b="17560"/>
          <a:stretch/>
        </p:blipFill>
        <p:spPr>
          <a:xfrm>
            <a:off x="4343400" y="3192480"/>
            <a:ext cx="4699080" cy="36655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&amp; c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9199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of cell membran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layer =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ilic heads on outsid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 contact with aqueous solution outside of cell and inside of cel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obic tails on insid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m co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s barrier between cel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 flipH="1">
            <a:off x="1657440" y="4857840"/>
            <a:ext cx="2286000" cy="1239840"/>
          </a:xfrm>
          <a:prstGeom prst="wedgeEllipseCallout">
            <a:avLst>
              <a:gd name="adj1" fmla="val 65208"/>
              <a:gd name="adj2" fmla="val 24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ell th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bout soa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96880" y="138384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pids are composed of C, H, 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ng hydrocarbon chains (H-C)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amily groups”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ospho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o not form polym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big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made of smaller subun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 continuing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7200" r="0" b="0"/>
          <a:stretch/>
        </p:blipFill>
        <p:spPr>
          <a:xfrm>
            <a:off x="6999120" y="378000"/>
            <a:ext cx="2028960" cy="26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10" name="" descr=""/>
          <p:cNvPicPr/>
          <p:nvPr/>
        </p:nvPicPr>
        <p:blipFill>
          <a:blip r:embed="rId2"/>
          <a:srcRect l="0" t="47402" r="9442" b="9600"/>
          <a:stretch/>
        </p:blipFill>
        <p:spPr>
          <a:xfrm>
            <a:off x="5100480" y="2949480"/>
            <a:ext cx="3951360" cy="2108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5760" y="1371240"/>
            <a:ext cx="859788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ycerol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 (3C alcohol)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+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ty ac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ty acid = </a:t>
            </a:r>
            <a:br>
              <a:rPr sz="2400"/>
            </a:b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l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C “tail” with carboxyl (COOH) group “head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65883"/>
          <a:stretch/>
        </p:blipFill>
        <p:spPr>
          <a:xfrm>
            <a:off x="1600200" y="4000680"/>
            <a:ext cx="6477120" cy="2482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27160" y="6000120"/>
            <a:ext cx="3464280" cy="5094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482200" y="4844880"/>
            <a:ext cx="605520" cy="1015560"/>
            <a:chOff x="2482200" y="4844880"/>
            <a:chExt cx="605520" cy="1015560"/>
          </a:xfrm>
        </p:grpSpPr>
        <p:grpSp>
          <p:nvGrpSpPr>
            <p:cNvPr id="216" name=""/>
            <p:cNvGrpSpPr/>
            <p:nvPr/>
          </p:nvGrpSpPr>
          <p:grpSpPr>
            <a:xfrm>
              <a:off x="2486160" y="4844880"/>
              <a:ext cx="601560" cy="1015560"/>
              <a:chOff x="2486160" y="4844880"/>
              <a:chExt cx="601560" cy="1015560"/>
            </a:xfrm>
          </p:grpSpPr>
          <p:sp>
            <p:nvSpPr>
              <p:cNvPr id="217" name=""/>
              <p:cNvSpPr/>
              <p:nvPr/>
            </p:nvSpPr>
            <p:spPr>
              <a:xfrm>
                <a:off x="2486160" y="484488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87600" y="526068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482200" y="536040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720800" y="3914640"/>
            <a:ext cx="2165400" cy="1650960"/>
            <a:chOff x="1720800" y="3914640"/>
            <a:chExt cx="2165400" cy="1650960"/>
          </a:xfrm>
        </p:grpSpPr>
        <p:sp>
          <p:nvSpPr>
            <p:cNvPr id="221" name=""/>
            <p:cNvSpPr/>
            <p:nvPr/>
          </p:nvSpPr>
          <p:spPr>
            <a:xfrm>
              <a:off x="1720800" y="391464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48760" y="486468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acylglyce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fatty acids linked to glycer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ster linkag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between OH &amp; COOH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981080" y="2874960"/>
            <a:ext cx="5581800" cy="3830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443560" y="2871000"/>
            <a:ext cx="1380960" cy="371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hydroxy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70400" y="2871000"/>
            <a:ext cx="1365840" cy="371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arboxy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47402" r="9442" b="9600"/>
          <a:stretch/>
        </p:blipFill>
        <p:spPr>
          <a:xfrm>
            <a:off x="2189160" y="3524400"/>
            <a:ext cx="5608800" cy="299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29" name="" descr=""/>
          <p:cNvPicPr/>
          <p:nvPr/>
        </p:nvPicPr>
        <p:blipFill>
          <a:blip r:embed="rId2"/>
          <a:srcRect l="0" t="0" r="0" b="66003"/>
          <a:stretch/>
        </p:blipFill>
        <p:spPr>
          <a:xfrm>
            <a:off x="2209680" y="1193760"/>
            <a:ext cx="5405400" cy="20638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51320" y="2633760"/>
            <a:ext cx="516240" cy="819000"/>
          </a:xfrm>
          <a:prstGeom prst="downArrow">
            <a:avLst>
              <a:gd name="adj1" fmla="val 50000"/>
              <a:gd name="adj2" fmla="val 3966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78120" y="2745000"/>
            <a:ext cx="3808440" cy="4057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31480" y="1724040"/>
            <a:ext cx="605520" cy="1015560"/>
            <a:chOff x="2931480" y="1724040"/>
            <a:chExt cx="605520" cy="1015560"/>
          </a:xfrm>
        </p:grpSpPr>
        <p:grpSp>
          <p:nvGrpSpPr>
            <p:cNvPr id="234" name=""/>
            <p:cNvGrpSpPr/>
            <p:nvPr/>
          </p:nvGrpSpPr>
          <p:grpSpPr>
            <a:xfrm>
              <a:off x="2935440" y="1724040"/>
              <a:ext cx="601560" cy="1015560"/>
              <a:chOff x="2935440" y="1724040"/>
              <a:chExt cx="601560" cy="1015560"/>
            </a:xfrm>
          </p:grpSpPr>
          <p:sp>
            <p:nvSpPr>
              <p:cNvPr id="235" name=""/>
              <p:cNvSpPr/>
              <p:nvPr/>
            </p:nvSpPr>
            <p:spPr>
              <a:xfrm>
                <a:off x="2935440" y="172404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213984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31480" y="223956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812320" y="3959280"/>
            <a:ext cx="605520" cy="1015560"/>
            <a:chOff x="2812320" y="3959280"/>
            <a:chExt cx="605520" cy="1015560"/>
          </a:xfrm>
        </p:grpSpPr>
        <p:grpSp>
          <p:nvGrpSpPr>
            <p:cNvPr id="239" name=""/>
            <p:cNvGrpSpPr/>
            <p:nvPr/>
          </p:nvGrpSpPr>
          <p:grpSpPr>
            <a:xfrm>
              <a:off x="2816280" y="3959280"/>
              <a:ext cx="601560" cy="1015560"/>
              <a:chOff x="2816280" y="3959280"/>
              <a:chExt cx="601560" cy="1015560"/>
            </a:xfrm>
          </p:grpSpPr>
          <p:sp>
            <p:nvSpPr>
              <p:cNvPr id="240" name=""/>
              <p:cNvSpPr/>
              <p:nvPr/>
            </p:nvSpPr>
            <p:spPr>
              <a:xfrm>
                <a:off x="2816280" y="395928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17720" y="437508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812320" y="447480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812320" y="4987800"/>
            <a:ext cx="605520" cy="1015560"/>
            <a:chOff x="2812320" y="4987800"/>
            <a:chExt cx="605520" cy="1015560"/>
          </a:xfrm>
        </p:grpSpPr>
        <p:grpSp>
          <p:nvGrpSpPr>
            <p:cNvPr id="244" name=""/>
            <p:cNvGrpSpPr/>
            <p:nvPr/>
          </p:nvGrpSpPr>
          <p:grpSpPr>
            <a:xfrm>
              <a:off x="2816280" y="4987800"/>
              <a:ext cx="601560" cy="1015560"/>
              <a:chOff x="2816280" y="4987800"/>
              <a:chExt cx="601560" cy="1015560"/>
            </a:xfrm>
          </p:grpSpPr>
          <p:sp>
            <p:nvSpPr>
              <p:cNvPr id="245" name=""/>
              <p:cNvSpPr/>
              <p:nvPr/>
            </p:nvSpPr>
            <p:spPr>
              <a:xfrm>
                <a:off x="2816280" y="498780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17720" y="540360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812320" y="550332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812320" y="6035760"/>
            <a:ext cx="605520" cy="1015560"/>
            <a:chOff x="2812320" y="6035760"/>
            <a:chExt cx="605520" cy="1015560"/>
          </a:xfrm>
        </p:grpSpPr>
        <p:grpSp>
          <p:nvGrpSpPr>
            <p:cNvPr id="249" name=""/>
            <p:cNvGrpSpPr/>
            <p:nvPr/>
          </p:nvGrpSpPr>
          <p:grpSpPr>
            <a:xfrm>
              <a:off x="2816280" y="6035760"/>
              <a:ext cx="601560" cy="1015560"/>
              <a:chOff x="2816280" y="6035760"/>
              <a:chExt cx="601560" cy="1015560"/>
            </a:xfrm>
          </p:grpSpPr>
          <p:sp>
            <p:nvSpPr>
              <p:cNvPr id="250" name=""/>
              <p:cNvSpPr/>
              <p:nvPr/>
            </p:nvSpPr>
            <p:spPr>
              <a:xfrm>
                <a:off x="2816280" y="603576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17720" y="645156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812320" y="655128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206800" y="3289320"/>
            <a:ext cx="1861920" cy="1419120"/>
            <a:chOff x="2206800" y="3289320"/>
            <a:chExt cx="1861920" cy="1419120"/>
          </a:xfrm>
        </p:grpSpPr>
        <p:sp>
          <p:nvSpPr>
            <p:cNvPr id="254" name=""/>
            <p:cNvSpPr/>
            <p:nvPr/>
          </p:nvSpPr>
          <p:spPr>
            <a:xfrm>
              <a:off x="2206800" y="328932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7960" y="410256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06800" y="4335480"/>
            <a:ext cx="1861920" cy="1419120"/>
            <a:chOff x="2206800" y="4335480"/>
            <a:chExt cx="1861920" cy="1419120"/>
          </a:xfrm>
        </p:grpSpPr>
        <p:sp>
          <p:nvSpPr>
            <p:cNvPr id="257" name=""/>
            <p:cNvSpPr/>
            <p:nvPr/>
          </p:nvSpPr>
          <p:spPr>
            <a:xfrm>
              <a:off x="2206800" y="43354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7960" y="51487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06800" y="5438880"/>
            <a:ext cx="1861920" cy="1419120"/>
            <a:chOff x="2206800" y="5438880"/>
            <a:chExt cx="1861920" cy="1419120"/>
          </a:xfrm>
        </p:grpSpPr>
        <p:sp>
          <p:nvSpPr>
            <p:cNvPr id="260" name=""/>
            <p:cNvSpPr/>
            <p:nvPr/>
          </p:nvSpPr>
          <p:spPr>
            <a:xfrm>
              <a:off x="2206800" y="54388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87960" y="62521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store ener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HC ch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or non-polar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or hydrophobic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nergy storag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centrat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ll H-C</a:t>
            </a:r>
            <a:r>
              <a:rPr b="1" i="1" lang="en-US" sz="2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x carbohydra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ushion orga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sulates 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nk whale blubb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08160" y="1814400"/>
            <a:ext cx="1922760" cy="735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84480" y="2247840"/>
            <a:ext cx="259092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1352" t="46803" r="9442" b="9002"/>
          <a:stretch/>
        </p:blipFill>
        <p:spPr>
          <a:xfrm>
            <a:off x="4694400" y="3191040"/>
            <a:ext cx="4270320" cy="237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864560" y="398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264280" y="500040"/>
            <a:ext cx="2411280" cy="1239840"/>
          </a:xfrm>
          <a:prstGeom prst="wedgeEllipseCallout">
            <a:avLst>
              <a:gd name="adj1" fmla="val 71726"/>
              <a:gd name="adj2" fmla="val -27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Why do humans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like fatty foods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816520" y="4807080"/>
            <a:ext cx="2843280" cy="189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C bonded to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C=C double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ng, straight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st animal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olid at room temp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tributes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diovascular disea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atherosclerosis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plaque deposi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0" t="1683" r="52024" b="4872"/>
          <a:stretch/>
        </p:blipFill>
        <p:spPr>
          <a:xfrm>
            <a:off x="5502240" y="3038400"/>
            <a:ext cx="3513240" cy="3668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73" name="" descr=""/>
          <p:cNvPicPr/>
          <p:nvPr/>
        </p:nvPicPr>
        <p:blipFill>
          <a:blip r:embed="rId2"/>
          <a:srcRect l="23628" t="60008" r="27001" b="7504"/>
          <a:stretch/>
        </p:blipFill>
        <p:spPr>
          <a:xfrm>
            <a:off x="5370480" y="635040"/>
            <a:ext cx="37735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rcRect l="53555" t="2520" r="3600" b="5039"/>
          <a:stretch/>
        </p:blipFill>
        <p:spPr>
          <a:xfrm>
            <a:off x="5681520" y="2820960"/>
            <a:ext cx="3343320" cy="3867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58720" y="1371600"/>
            <a:ext cx="805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C double bond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fatty ac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lant &amp; fish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vegetable oi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quid at room 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kinks made by doub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onded C prevent th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lecules from packing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ightly toge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31501" t="51000" r="27001" b="3000"/>
          <a:stretch/>
        </p:blipFill>
        <p:spPr>
          <a:xfrm>
            <a:off x="5719680" y="355680"/>
            <a:ext cx="2908440" cy="2417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 flipH="1">
            <a:off x="221760" y="556560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 flipH="1">
            <a:off x="2154240" y="5479920"/>
            <a:ext cx="2548080" cy="1239840"/>
          </a:xfrm>
          <a:prstGeom prst="wedgeEllipseCallout">
            <a:avLst>
              <a:gd name="adj1" fmla="val 88254"/>
              <a:gd name="adj2" fmla="val -146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mono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poly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11-13T04:33:52Z</cp:lastPrinted>
  <dcterms:modified xsi:type="dcterms:W3CDTF">2008-11-20T15:36:39Z</dcterms:modified>
  <cp:revision>51</cp:revision>
  <dc:subject/>
  <dc:title>PowerPoint Presentation</dc:title>
</cp:coreProperties>
</file>